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62E-5723-4BC5-8AE5-6756A0E8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1D8-F124-4D52-9C59-26D03209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7CF6-E48B-4B50-852B-9F64B526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514B4-8085-47DF-8FCC-C95B6535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E7838-7802-4FF0-8FBA-610CA705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135E-4240-4A3E-B1D2-CC19C2D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44067-921A-489F-AB9B-72B1069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132A0-29E8-4062-8D47-9746076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6B764-3D6D-4C50-A6FD-5F5D2323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7D16E-3DD6-45C0-961A-869DBFAB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2EF5B-294C-46D6-AF0E-B582C7CC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B7B77-152C-4482-B93E-3855CD12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AA3-0469-4950-B065-61A4F975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7DFB4-6DC0-4C8B-B05E-7EDF09F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A028E-96BC-423A-B8F4-223181C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0077C-5BB2-4333-82C3-6A09E094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A581E-3D68-4141-949C-47E4F57F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E9713-2E12-4D39-A8F3-68D9D7D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CF4EA-7254-412C-8236-2B06EB5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AFA7F-F33A-459A-9FB2-68A6FD9C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AC9A5-E9A9-4DDE-813C-A83EB1A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29370-6A43-44BC-937A-337B3A4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6C78-B493-4416-ADB6-3364E244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6DD-3544-4D79-A0E1-0D8BE992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3D17-9939-4778-B1E2-23AF435C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C187-8D1E-4ADC-8007-A4E1F01D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4CCB7-838B-4D39-8569-D2A86CC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C0CE4-AE21-41E0-AFB3-E3CC9121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2558-4A79-4797-B32E-4009A26A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CC503-D9CC-48DF-B94D-AC7EA7F5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F4C29-40FB-4440-B528-6AB95336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1791-3100-4DE1-AE03-4D57939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C61A-D213-4889-9FC0-3573C47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1820D-00EA-4894-B178-72F9BC8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4877-AD28-494D-B37F-2BCB668B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F2EDE-AD2F-4563-B933-7F847B05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EEE47-EF03-4586-AFD1-6C28B83D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5E1E9-4311-4A24-934D-360D8205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6A104-4B02-448D-A140-B957AC28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0253D-5C23-4B32-8C08-C92CD724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CA1BB-D62A-4AED-9176-F2E7DD38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9274E-A97A-46AF-B756-DD5CEC57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2E262-B1BE-4754-B896-44F87055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B827A-6D19-49F1-B348-C1DBCDEA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FE231-3F5C-4934-9E65-CBCB6351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D56-9504-437E-A039-D02037B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F65C6-158B-4C5B-86C6-A632716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752CB-DD43-4B45-BAFC-3F146D0F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A6056-BDA7-4B2A-8397-B6F14456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491E1-AE03-43F9-804B-237C1557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67FA1-35A9-456A-A9AC-1FBFF48D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DA7E7-063D-4702-94E7-AC2EE6DC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74AEE-8E56-499C-AC18-018739E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A1FB5-6F33-43F2-B0C4-1CC7B6B5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19EDD-67EB-41F2-A682-98EC6C6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9737B-35A1-4E31-8741-60731F68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1A66-2A12-478A-809F-90E604DA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83847-89D2-4111-8587-60DC1A09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E3F2A-6C1A-4BEE-9132-00EF7453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CDECB-5FF6-4D68-9DE3-32142E6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0B23F-C510-4730-B0E3-B8B5B67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6A86E-D70F-4B0B-A441-767259EB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EF812-7338-409F-B4C5-3F6F9CA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B5BF7-A51B-4301-9A11-9766715E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50C64-4551-46FA-B707-1B4D8C14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E035C-10C9-4F97-A1AA-BD1E7CFB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32030-938A-40F6-A64C-DA622CC8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5341-0509-46DF-AD41-260EE5C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F9B0F-C793-423E-A177-3C1E6748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30361-C9B9-4322-8FD0-D8F5AFA4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7BA06-BB63-4605-9E9F-8E72B25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3836F-6DA0-45B4-9F6D-34D2D2B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3A646-5C81-466F-AED0-7510C2F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C7836-00E5-48C9-971A-1597C88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5B26C1-FB81-4ADD-B74A-5B9CE209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FC797-3F63-4131-815B-11FA291D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CE876-5DF4-44CA-BEC3-C81F4366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195B2-1021-40B5-AC69-46096F0D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EB31-3425-448E-A3B9-F3B61B4C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36BB5-B490-44DC-B91F-14477B4E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4D48F-357F-4BA0-9D3F-86AAC5A1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40814-3428-4F18-BEBE-1954C74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5B948-92FD-4854-A4A8-98882526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A61EC-DE08-4B70-9820-741DC2C2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0A694-DC8E-4815-B7E3-090A01AD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FF2C3-92F9-4438-84D9-A20964F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8CD89-BB63-469D-8643-F8B9CE4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ECB2E-042A-4F52-94BF-84B7E51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AAF4D-8FE1-4E1A-BBE6-25F9B32E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CE34-C97C-4CDE-85AB-25A8B986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E59C8-3ECC-424C-B4FB-A3F6BD20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2FFDB-A47C-4B6D-B275-F5DE9DDF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E05C90-2C77-4487-A451-7070BE7E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96DD8-61A2-45A9-9E70-22F9200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EE2D7-7AF1-4641-9E1F-3D7ED3CF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9EA3C-137F-4DB1-BC36-9DF908F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0E5C3-11F0-4234-AE18-6358526F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7963A-D4C1-471C-8A18-0EB5EE6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358A6-5D29-46B1-A699-3170700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420E0-ED8E-4776-9197-F4AD869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BCBC-A49A-4422-80CC-7695007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F6FF8-3742-42C7-B269-93D852EC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CCE40-3E51-4C30-817C-71BE5D2F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608421-F7C7-4D36-A7B9-499A2446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89CB8-59CE-49BC-85C2-E13EB399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93BD7-061E-45F3-9A1D-539D4032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E112B-B649-4C73-B008-B80679F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C141B-54AA-4FE4-B3C4-CF24E88E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61625-39F5-4A6E-A21B-4555330F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A774A-0C1A-4460-AE08-0BDD37EC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39A27-5299-475C-ADC0-54E885B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05C-5D12-4DE2-A32E-F6E98C3C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EBC3-9C0A-4124-A6C7-4780A86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08A08-F879-4FFC-A6F1-003C2E1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D12A2-8864-4E4D-9BE4-4FDC8A8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A2B16-66E9-4910-ACF5-F3B4D20C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BD3B1-8879-4FD8-97FD-BF91F2F7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EDB40-57C9-4064-A0E7-086DC391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470B4-7412-4437-8430-45C9B2B7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A17DB-8515-4A65-A057-694B766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DAE71-BD82-43C3-BDB9-EB128A3B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3F8CC-5297-499A-8FD1-57A97FA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A5074-B041-48FE-AE00-B9FA6E3F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ACAC-90AC-462B-AB4A-F4FCA9D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110F8-23DD-42D9-900E-57508A5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E04CC-7A27-4294-9662-D9092A1A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57797-F1DC-4FCC-9C84-051357A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685E5-8E97-4D51-9AD6-E3B1BE1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77477-CCC2-4E33-82FF-60A02124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29F86-B421-4C9E-913F-C5521264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737E0-61BB-40AA-BE53-9DA3D4EA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F92FB-4F09-4803-9205-06216115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F1389-E98E-46D7-916A-76C58BC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315A0-88D5-42B0-8BE1-146F45C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5FBD-D979-4CBE-9047-FBED04C6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F3655-225B-4099-AF00-A7079EFA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CF8C68-ADF7-4469-ABBA-6F2B8279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920AA-DDE1-4F64-A7A5-7B218E6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BD7999-16D9-4762-9341-1C9D032A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A84E68-07A8-4517-B0B8-80B25A0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AB488-DA6E-46CC-968E-E544AA9F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97E73-559B-4877-8F8C-627447BD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3839C-2C59-411B-AA42-2342A81E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1C8AB-584C-45D5-8433-F8F082F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9455B-A748-4C8C-A2CA-A8529A51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D216-E5E4-4A18-951D-1881BAD2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3AEA12-B40B-4342-888A-8F6BFD8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0BE63-FD77-4C63-85CE-EDFF637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ED352B-1869-483D-887C-AED95F3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68A85-AA6C-419A-A954-5910554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6EC1CA-97BD-4B2B-8D25-EA72FF3D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9E31E-6071-4503-8EF7-E6BBD2A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2C02A-FBBD-40C3-9E92-4AF82FA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94C36-5026-4F80-A6FB-6EB4BDE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F898B-4931-4019-A402-3822B0E0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24378-390C-4D25-9A59-48C53372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E1FE-50E2-49A2-B128-4C0F5B80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7DF649-652A-412F-8D2F-D75E9DAC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DCC726-7152-4C0C-9817-26ABBFFA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C08A3-CFEC-40DB-9F8A-D34917F7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9581E-8DF5-427B-9D1D-D47053D3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F7C62-9465-48F4-B73D-D8410F9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580C8-4DAD-40DC-9EE1-0FE855E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09502-D894-4591-A498-AFF8FE4A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E597D-EC85-459C-9D52-FCA573B7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EC3E8-A6E6-4230-AAAF-18DA2CE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A59CC-4A58-4BD1-8526-9316B4BC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436A-ED1C-4788-AF54-34443FFE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47310-86FC-4C18-B384-9CB1CA23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24C11-233F-4150-BF0B-5FDA6872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94985-3154-4538-AB1B-FD1F68C0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A8C1-2602-4186-B6E8-48C95FA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0D2E-60BC-4A01-8B7E-548C4E98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8373-7236-43AC-864F-552636BA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6247-8123-46FD-9982-F5627507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D97-15E6-4EF5-9589-3C62613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179C-BD27-498C-92BA-3415720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4D03-A9A1-42E2-AF25-66D673D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9027-78FA-45DC-9805-A5A97398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3CC3-7036-4DEA-B468-8D70482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7345C-4D9C-4560-8431-62BF0C0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7A77-30C1-46F9-A85C-ADE0D57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0B3E-BB3E-43A4-89BB-3FEB1D01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8F3A-1788-427E-8E5B-A6937E35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67E82-B60A-48E6-AAA9-86BD0CC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1CA1-4D8E-4C8C-8CE2-5CE5D75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984-DA4D-48C3-9F26-C03D9ACC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695C-575E-4238-8080-69634F8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C4ED1-6746-46D2-8159-4195C5DF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4762-C6DD-4F0E-A405-897659B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9165-B971-4C26-97C6-01C844D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5FFC-F20B-4ABD-ABAB-28AD76F2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CA0E-12CF-4659-B9A2-2F30DBF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3AC04-1A71-4826-82C9-E08E97B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2544-EDE7-4329-A625-386B9E45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D5D2F-0B34-4818-BDB2-2B5C5A88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48EFD-6C15-448F-A9FD-6837C9AD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F5F-675D-4156-89E5-7ABC0FD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7963-16BE-42F6-9681-31FD5191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C58DF-FF1A-47E4-B4C1-601F97E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97407-1490-4794-A88F-038E1160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1AD2-F45D-40E5-B4B8-DC08C8F1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413F-78EE-416F-9202-DFDD0115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983C-8334-4FCF-B03C-F14C029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CD45-7166-47FE-822B-FAD6F80B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2598-C54B-483C-ADC9-B94CCA9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1071-3D68-4268-8BA8-7F17A723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6FC5-84FD-4C6D-A824-D76E3085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7F2-94A0-433C-ADCF-8BC556FA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7401-151F-403C-96EA-21C0F96A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F1CDE-5338-48B9-97D0-CED9B91E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5CDAC-988B-4096-A541-66E724C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EF286-7949-4EB7-9EC4-1EF8863B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C65D-7C62-49F8-A211-063C0157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2506-9AE6-42D0-809E-BF9D409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8754F-E8D6-4983-96B0-791A2369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A98DB-4378-4A47-8577-EAAFEFC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CEA32-11D8-4DA6-B418-B0F9B237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03A89-567C-4896-99FB-7B307ACB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98C-94C5-4317-80E2-3B2CBC8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F856-35DA-498F-9E56-0D4CD4B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5BFDC-2399-45BF-823A-0B5D4194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0528-516B-45A8-8DA4-99282810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F86EE-9549-47BB-8825-35EBD36A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A8C9D-D918-4B68-85DD-EF034442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E89D-E79B-4C5A-866A-4F5D751A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DEE9-4A54-4963-8482-5EF6EFC5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3A831-D2C6-4E1D-9E2B-5F6682D9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7DE1-BA6D-4CA0-8C89-C14BA78A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1BE3-1C99-499E-8341-CE3313E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15D-7EAA-44DD-8A93-C04214D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FEAAC-56FE-41A9-A38A-6F0EB4E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ACBB-9477-407A-BCAF-FB16797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1F9C1-E424-4ADC-BF8A-37087EE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11EEE-65D3-4B54-B81F-07280491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7D43-E803-4474-ABB0-02D8AE33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68F1-D189-400D-B1F9-33F6C313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E586-69C1-46D9-BE3F-9CBD3C9F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74898-6E3E-4BCD-877E-5B3207C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54F01-3BDE-4CC7-9690-F64F6057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8ADB2-55A2-4787-80F1-0D7AE22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619-F82F-4131-B86C-101B1EF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49C2-A454-4A80-AA6F-426D6DBC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6F10D-6EF3-43B8-BE6F-2C1D6CF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6C76-1242-4088-8B6F-6461B27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58CC4-BF89-4446-9E51-2A0AA486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9D5E1-BD0D-477B-B13E-547EEF4F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8C3F-FC1F-4E52-A490-1F8565E3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9BC7-2803-4A49-B344-D9BF82C0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58F65-3003-4FD9-9317-E6A94095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90BBE-2A8D-4F7B-8750-5E116917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B04CF-8962-4512-A7E9-30696AF5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59CF-F938-450E-B395-1D573135D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B34-12C4-487D-84BE-7CB6EF6B8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5C19-2729-4E9E-8E8D-0AA8B2ECF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B59-A05F-4184-9467-30E93238A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648-CA7F-405B-A2C5-EFEDB3708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38BE-1651-4846-A8F7-6A79BD4C8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612A-88CC-4BB5-8B3D-926DBB0D8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4FB0-48D4-4204-AFD5-4F4FFBF09B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AC7-DD0B-4DB2-9C67-A8B1D41B2B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9644-B46B-475E-8C5D-659225953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CEA-B617-479F-8F10-A5AE73D956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41F-0996-47F4-AB0E-BDE1AD40C7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2EC6-A38E-4C45-9329-170208230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B7EC-081C-40CF-B296-D70D9CBA13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6875-09E4-472A-9E2F-9FF8D5C50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2AC9-670F-4FF0-9688-80228ED47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83E-AD75-4418-B832-8ACC1F715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7F08-A4FF-491F-8DEE-73C6CF0DB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8810-0E85-4C12-B22A-890FC89308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8C44-8F42-47E3-A708-6916BB2B1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3118-9797-4A35-8660-ED1D5D4CB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70E-DACB-4580-B8B5-3FC00CF580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5D18-6F9A-49B5-88D2-C5721B1B6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2823-C7DB-41C3-A228-B3902074A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D4E3-4667-41AE-A2C9-E52BEF67C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AFB-60D9-450D-804A-621862E42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34BC-A55C-43D2-BFC4-2791AF119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7084-F6BD-41FB-8D0F-4327D4A52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E64-4EFA-46B8-A533-FDC7F2149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F48-11D9-434C-A29C-D2C7C4DE9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59D7-D6D0-4687-9CA5-DFF5AAAC3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3E0B-52B1-457C-9A61-71E48A966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684-523E-4C5F-A92B-1DED294A6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912-973A-4C19-9F99-FD57841DE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B759-6BE8-4126-AB63-04523783C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B37-42A0-47E7-AA54-374D9C51B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622B-491E-42F3-8F5D-B7166502B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56CE-8DF4-4CD0-9EB1-E304A88A8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076B-62FF-477C-AC97-20F409DAA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2E4D-8C15-49DA-AE47-31816349D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0080" y="3057480"/>
            <a:ext cx="8943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466560" y="804960"/>
            <a:ext cx="8210880" cy="5248080"/>
          </a:xfrm>
          <a:prstGeom prst="rect">
            <a:avLst/>
          </a:prstGeom>
          <a:ln w="0">
            <a:noFill/>
          </a:ln>
        </p:spPr>
      </p:pic>
      <p:sp>
        <p:nvSpPr>
          <p:cNvPr id="1059" name="矩形 2"/>
          <p:cNvSpPr/>
          <p:nvPr/>
        </p:nvSpPr>
        <p:spPr>
          <a:xfrm>
            <a:off x="1143000" y="4000680"/>
            <a:ext cx="57862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"/>
          <p:cNvSpPr/>
          <p:nvPr/>
        </p:nvSpPr>
        <p:spPr>
          <a:xfrm>
            <a:off x="1309680" y="5353200"/>
            <a:ext cx="57862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61437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857160" y="4572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457200" y="905040"/>
            <a:ext cx="8229600" cy="504792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71720" y="928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452520" y="1619280"/>
            <a:ext cx="8238960" cy="36194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2"/>
          <p:cNvSpPr/>
          <p:nvPr/>
        </p:nvSpPr>
        <p:spPr>
          <a:xfrm>
            <a:off x="1000080" y="17146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"/>
          <p:cNvSpPr/>
          <p:nvPr/>
        </p:nvSpPr>
        <p:spPr>
          <a:xfrm>
            <a:off x="857160" y="34290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428760" y="933480"/>
            <a:ext cx="8286480" cy="499104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1214280" y="1857240"/>
            <a:ext cx="13575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3500280" y="2286000"/>
            <a:ext cx="17859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6429240" y="3214800"/>
            <a:ext cx="192888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7715160" y="4143240"/>
            <a:ext cx="7858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885960" y="4572000"/>
            <a:ext cx="13572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"/>
          <p:cNvSpPr/>
          <p:nvPr/>
        </p:nvSpPr>
        <p:spPr>
          <a:xfrm>
            <a:off x="5192640" y="5025960"/>
            <a:ext cx="18082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8143560" cy="2571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571680" y="3286080"/>
            <a:ext cx="8086680" cy="32958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3"/>
          <p:cNvSpPr/>
          <p:nvPr/>
        </p:nvSpPr>
        <p:spPr>
          <a:xfrm>
            <a:off x="5857920" y="3857760"/>
            <a:ext cx="9288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7000920" y="4286160"/>
            <a:ext cx="13572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"/>
          <p:cNvSpPr/>
          <p:nvPr/>
        </p:nvSpPr>
        <p:spPr>
          <a:xfrm>
            <a:off x="7643880" y="4786200"/>
            <a:ext cx="1000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"/>
          <p:cNvSpPr/>
          <p:nvPr/>
        </p:nvSpPr>
        <p:spPr>
          <a:xfrm>
            <a:off x="736560" y="5226120"/>
            <a:ext cx="11430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7"/>
          <p:cNvSpPr/>
          <p:nvPr/>
        </p:nvSpPr>
        <p:spPr>
          <a:xfrm>
            <a:off x="1282680" y="5668920"/>
            <a:ext cx="143208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57200" y="1119240"/>
            <a:ext cx="8229600" cy="461952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5000760" y="1571760"/>
            <a:ext cx="20714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7894800" y="2517840"/>
            <a:ext cx="7142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642960" y="2928960"/>
            <a:ext cx="8571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6249960" y="3414600"/>
            <a:ext cx="9288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5143680" y="4357800"/>
            <a:ext cx="13572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4321080" y="4832280"/>
            <a:ext cx="146520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2940120" y="5251320"/>
            <a:ext cx="5713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504720" y="914400"/>
            <a:ext cx="8134560" cy="502920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5237280" y="3189240"/>
            <a:ext cx="64296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442800" y="1376280"/>
            <a:ext cx="8258400" cy="410544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6254640" y="4575240"/>
            <a:ext cx="5000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1:4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